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7B7-BAFF-45F0-B536-92EC5839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CBD-A553-4E90-9537-C0E5209F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038-A4D4-4843-A7C6-36BB0AEB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56E-4D12-4FF8-9AA8-ED86694C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CBE-E78F-473D-95AE-D5CF7ACE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98C-1941-40E4-A2C5-D8C283BF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27F-7302-4A52-9305-2976BE66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708-1683-4E00-908B-959B8686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52F-CE49-4124-8217-3CA7C97D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BFE-5AD3-456A-B0D8-EA28553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FE6-C602-42EA-ACE9-672D2775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360-57E7-4C27-8763-4B9F3BD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2A0E-0755-49FF-BDBB-039C4879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6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atter Plots and Equations of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Writing the Equation of a Trend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2496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3429000" cy="1036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257976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5029200" cy="338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52280" y="5686560"/>
            <a:ext cx="548640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5427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6386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1:35:13Z</dcterms:created>
  <dc:creator>Susannah Graham</dc:creator>
  <dc:description/>
  <dc:language>en-US</dc:language>
  <cp:lastModifiedBy>Susannah Graham</cp:lastModifiedBy>
  <dcterms:modified xsi:type="dcterms:W3CDTF">2009-08-04T21:17:37Z</dcterms:modified>
  <cp:revision>1</cp:revision>
  <dc:subject/>
  <dc:title>Lesson 6.6 Scatter Plots and Equations of Lines</dc:title>
</cp:coreProperties>
</file>